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E62-742B-4761-84ED-13B60AE6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724-CE58-4BB2-8A2C-EA6E0E73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AD7-C1E0-4764-8340-874B8558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6F2-9B80-43AF-8CBB-9666AB00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DEA9-3487-43BA-83F0-9E13CAFC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072E-265E-4338-9432-79823E6C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58E2-20C7-4052-B1C4-FE574D9F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C10B-D59B-4E34-B3E9-B034818F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FD05-772D-4CAA-AC3A-FCD7ADA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3796-A4CE-465C-BD83-7C8B317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466E-72AD-4FB8-AEB8-7FE1F182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9C5-1A98-45DC-8FBE-D8D68AF7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6E62-B412-4B45-92B5-0015972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64B1-4B2F-4293-A897-49C0AC1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2B87-38C5-4D73-90FF-7DA802F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3EBF-1483-44AB-AC48-6396AACD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686-1874-40E6-9D02-A0FDB1CD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91E-CFAF-4463-AE62-6C8BACED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B53-8A43-424A-BAC5-5696F0F5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EB9-221A-4EA2-B35E-D7A8805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209-9759-4246-B503-5D585640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2BD-B478-428A-A397-86B8AA7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959-D48F-4FB6-AD45-6CEB4B3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E0F-1282-46C2-9E03-3F9BE56B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3769-6019-43FE-B736-FCD75F932D97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463A-CF89-4F1E-9C7C-30CC24E044A1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Huomioita Kuopion ilmastopoliittisesta ohjelmasta 2009-2020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Mikko Pohjola, THL, Ku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iitekeh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ysymyksi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hu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riittisiä kommentte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iitekehy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U:n 2020 20 –tavo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% KHK-vähenn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% uusiutuvia (10% biopolttonesteitä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0% kulutusvähenn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Globaali (UNFCCC, IPCC, …) +2 astetta –tavo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ioto:n sopimus -&gt; uusi kv. Ilmastosopim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Bioenergian KHK-päästö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rve polttoaineen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symyksi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kä selittää Mikkelin alhaiset KHK-päästö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opio: n. 1 Mt CO2-ekv, n. 13 t CO2-ekv/hl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keli: n. 0,3 Mt CO2 ekv, n. 6 t CO2-ekv/hl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ä ohjelmalle/ohjelman ansiosta on jo ehtinyt tapahtua sitten vuoden 2009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tä tilanne nyt näyttää tavoitteiden saavuttamisen osal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ko olemassa hyviä esimerkkejä toimenpiteistä, joita on lähdetty toteuttama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äpä niiden aikaansaamista vaikutuksis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. kaupungin energiatehokkuussuunnitel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ehu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ohkea tavoit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yvä osoitus yleisestä tahtotilasta Kuopion Kaupungin taholta ilmastoasioihin puuttumis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yös osallisuus URGENCHE-projekt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opiolla aktiivista historiaa ilmastoasio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opion kaupungin energiatehokkuussuunnitel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elman jalkauttamisella esimerkkiä ja tekemisen tunt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rsin yksityiskohtaista ja käytännönläh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uran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=&gt; Vaikuttavuutta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rittisiä kommentte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voitteiden realistisu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menpiteiden vaikuttavu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kaupungin energiatehokkuusohjelman (suora) vaikutus vain n. 1/100 tavoiteltavasta KHK-päästövähennykses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menpiteiden ja tavoitteiden sekasot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sim. ohjelman tavoitteet, yritysten tavoitt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enpiteitä vai tavoitte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enpiteiden väliset suhte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enpiteiden yhteys tavoiteltuihin vaikutuksi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euranta, indikaattor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561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älittävät tekijä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menpiteiden ei-ilmastovaikutukset ja niiden suhde ilmastovaikutuksiin?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=&gt; ymmärrys tarvittavista toimenpiteistä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=&gt; keinot tarvittavien toimenpiteiden toteuttamiseks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elmä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uunnitelmassa kytkentä suunnitellusta toiminnasta ja todellisesta vaikuttavuudesta kohtaavat huo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joittunut näkem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että voidaan sopia tavoitteista mutta se ei riitä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yvä että ilmastotiede tuottaa ymmärrystä mutta sekään ei riitä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n myös tietoa toiminnan todellisista vaikutuksista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=&gt; Mutta tarvitaan uskottava ja kattava kytkentä suunnitellusta toiminnasta tavoitteisiin, jotta se ohjaisi toimint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Kritiikki sopii lähes kaikkiin olemassa oleviin ilmastosopimuksiin, -ohjelmiin y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0:32:19Z</dcterms:modified>
  <cp:revision>17</cp:revision>
  <dc:subject/>
  <dc:title>Avoin mallitus. Esimerkkinä liikenteen muutosten päästövaikutukset ja sairastuvuus</dc:title>
</cp:coreProperties>
</file>